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151-4896-486D-877E-F85D400C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627-6686-44A1-9E0F-FD1D4CC9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386F-6527-4C21-BE6F-E6FD0D6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0111A-0B6D-4647-A4FE-2026DDA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49D7C-DACE-4997-993B-E68345C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C603A-27AF-430E-9795-3851137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F6F41-35B7-4F89-A99F-6600B53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4360B-122C-4EDD-9D18-63536F5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838D7-187F-4B05-A258-10ABB942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51925-A10B-4C64-8270-12B9F9F7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DEEE7-A491-47FF-B37F-6B059033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CB461-1D4F-45DD-82BB-3AE5A037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3BE-7540-4178-AEC1-3ED6DE10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2C30-0B16-4595-9566-5CC153D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9F6A1-A544-4C2A-8979-AE19E1F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A5788-0202-4B54-9623-1644461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52449-39DF-4E5A-8125-961DDDBF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18916-9D37-4119-809C-52551105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86541-B568-4F90-8A6A-2600135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39A59-3A29-4BE7-B57A-68E26E1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AE2E-F880-4B54-8FCC-38D86072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4853B-24BE-4B06-AA8E-ED84A0D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2B0ED-3B91-4456-8C03-50C8257C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D41-C7BD-4003-8553-51B965B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7DE7E-EFB0-4721-A7D5-5057DF9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7BAD-D3C1-4F74-B9E5-62903FCC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A0C8B-B765-4E6A-AECF-86998E5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8B4D-BCC3-40E3-99BD-F802A44A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41159-A73A-4C3C-87B4-8310E5A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C2D8-8D93-47E8-ADEF-B47A4C65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2A34C-90F1-410C-AFC3-DAD39B6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9E53-1752-463F-84AE-12BB506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5260D-BB6B-485D-BC6D-190DA24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F355D-5E4E-4529-A470-5A6ABB3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C7B5-4464-414A-B0A7-001B5C8E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BA2BF-4CC5-4750-813A-A25E378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DAC20-5479-4558-95AC-8222F515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54B2-9CF9-4F21-9E67-C0062F7C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B07CF-8FD0-43C5-BD3F-09DB0DFA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C3D79-2C37-40B8-8226-3AF6EAFE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6F4E3-5F4A-4CB4-ADAA-04C0F38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86C1-485D-4511-947E-F60EC8F2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866F1-C60C-4DA3-B94D-E65CA00D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B9588-986F-479D-941A-88F625A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751E-A0D8-4F3E-A0DB-87FC8A6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1A0-5DB8-49F9-9351-7DB9BFA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80E92-6030-4EAB-BAF4-99D5E41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C89D1-B6EE-4BB9-A9B5-6FE234F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9C096-40D3-4C9F-B5FE-F92C62F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153FD-B0C7-4E8F-8677-1989313A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AA519-381D-445B-93B5-CFA25BA8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0F001-73B6-4259-AC8F-2578C925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985A1-B2C5-468A-A62F-7C22EAD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A321F-7871-4E81-BB9C-B186C867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C97DC-F38B-4265-82E7-EFD11B0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CF624-554E-4017-A167-BD03554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674-E3A4-4299-9A95-DB45AD78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CA6DF-1CCE-4FCE-B809-97CEBCF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974D-EB39-40D8-A2BB-0D04C97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F5382-8C60-4A37-A6A6-5FFF235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CF184-0B15-41E7-96FC-0C38562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D7752-89CD-451A-9557-3D71FCC4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43A45-1729-44F9-AF9A-A483203A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18CB9-9CBC-4AD6-9521-01F01730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2D058-F569-4341-8637-98C6F45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DF143-DE86-41C7-AC6C-64B9982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1223B-99DE-48E6-AB07-E2C1456D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E80-59D9-4C76-B8E9-16A13F0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B48F9-8410-4A4F-8202-7F0CC991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6420D-5A1C-4EE8-930D-FDAFD40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3A1E5-470A-42F3-8DE4-1FF38AE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E95AF-8D31-4126-8528-BB6DBB64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B1757-BBA8-448F-9B65-081D442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69AB3-EDB0-4FC8-8269-405BB81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DECDA-0C80-4B94-879D-468E0892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04740-F7EB-4312-BB83-DDB9B9E0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D69DC-45CF-44A6-8F4B-21DD02B0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1B63A-3CE9-48B7-ACBB-0E6A15BE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A2A-88D3-4304-8365-70E3E2C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00A31-CB67-48DE-B311-D5D97275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72E9A-D517-4E44-8748-02E5330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83E94-5FAA-46D7-B758-BBAD9A5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3F53E-184D-4147-AF15-FD7CCB1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063F7-1824-4221-A72A-23388C36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BB62B-470E-42D7-B29F-C0B2AFC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1A4E1-2E34-4865-9DF0-144736E0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B0703-15DD-4D77-AA28-97D8125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B92DD-3116-4C87-A465-2F45308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336F2-9725-493A-BABC-E7E82AFC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B18-3417-4184-BD6A-D8F19C7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C7DE0-74CA-4967-905C-A01F12A7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F1E89-BD8C-4E4A-9CEE-EC652ED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888D4-A034-4F5B-B515-A7FAEB68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21823-FF99-4137-8A40-BE58F14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98E3B-0F75-4FA7-A360-A5B9B7FF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103F4-5E95-4B46-A461-C0E065BC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4AA83-CA1D-48A1-BEDC-ACD87D87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31FC9-AC69-4513-98BC-755AF48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AD963-1213-4226-B34E-02250D0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FD5F6-6A08-47FE-BEFB-E32F3A7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1878-E564-492C-B294-3CBB2B5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14397-4771-4837-8D53-CB8293E0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6C032-72DA-4038-AFA3-5A4381CB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5DF3D-8141-4360-A6FC-E10202BC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71AD2-F729-431B-9905-5C267776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18D3A-548E-444C-ADD8-02CE91E1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BEA4F-4996-4C89-8BC7-053C8ED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F4F38-28C1-4A61-8848-90ABDD2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92929-AA6F-4FA1-8FE8-ACADE91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B96E5-34C9-4518-8CA5-B29C04D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E1D8A-CDE8-4979-8F89-88F177C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CF7-31BC-4766-AD84-0BC4B5D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3E9-C95E-4959-858F-8E56493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057C4-4C8A-4C04-8843-BE789A5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A92D5-FC7B-4EE5-9A32-BD53474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862DA-27B8-4307-9604-BE6219F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9455F-536C-4D80-9F0F-F6E86753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CD7BD-F642-42BF-B180-4A988E82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81980-227D-4EDA-BC1D-441BC18B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15BF2-34CE-4F0A-92D3-16FAEE5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ACE70-2B17-4CB7-B218-3387201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B5EEC-337E-46EF-BB53-98FA6A9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99A4D-34F8-4C46-AD52-8A140C5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88E1-FA3F-4557-B4E7-958F235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1F802-4B2C-4353-B5F2-2CC6D63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62A74-5B3D-416F-A952-2A1B350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33E376-E909-4241-B406-E0A4E440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B5E1E-A37C-4A8F-B44E-A2E0127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2DEAD-901F-4F8A-A869-D2135964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4E69E-724F-4FF8-98B5-046CC4A8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A954E-62BD-4EE8-9030-D03F2673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F385D-0F78-445A-BC87-B4E7A487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68DD4-1F1C-4EC2-BB12-A374797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7FE05-08B4-4C6D-BAA2-FD7A1114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9726-0B3C-4554-9E97-DBD0F09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46D93-86B1-47E6-9C0C-4E1393E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74D3A-B4FA-4BAC-B520-8E7A6D5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E2656-F0FE-46B0-B17F-83F7015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B2C5D-F180-4260-B334-B7C314A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E85D7-1487-4B76-B6A6-5CCC0C0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3012C-2AA0-40DE-BC77-973576D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DE7FB-CFC5-4854-83FE-C677DC7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BFDE4-2BEC-4942-9B59-BAEBC87B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F9FFD-C1ED-4027-9683-51FCAB41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ACCDC3-C3ED-44EC-8792-402C51D5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D3A0-0300-4256-A18A-CE35590C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B542D-ADA6-43D5-A02C-24C2A3C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76666-4982-4BF7-8B39-9EBA3EC3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5E942-97A9-47EB-A529-F639B6B4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1AA9E-753D-4B92-AB66-B526DCCF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57CDA-A193-4D8F-8862-E712333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DBB2D2-CE19-4529-BA17-92EB8C1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520FE-1120-420E-BDE4-A6D7DB8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3B6D5-3E54-4A56-886A-8F97A95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734D4-E576-4279-A614-CF86761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45D9A-1553-4F2B-8071-7F1DC6EC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79E-7CFA-4B85-9E38-356BB2BB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B377F-CE5C-498A-9411-F18169E8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D434E-2987-4494-9EC5-A7C365C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CDEAD-E0FB-495E-9E0D-E6DD7DA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B5397-C8CF-4488-86E5-894B4B2D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5DDC4-6D3F-44BC-9DFD-59B3DDFF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7ED63-084A-4641-B00D-03078EB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AA952-5E62-4E59-9A35-A437327F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C2E46-F011-4E2B-B6DF-8C16A32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9DAEB-E8F1-4E6D-A55E-1130038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B4108-A65B-4FC7-9713-62751903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5B16-B3D8-490F-920B-0F9FA186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754EE-8940-4FE6-A19B-220A98F1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39AFF-A82B-49DD-A345-C42B96B1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0230B-3B65-43A4-A56B-93F6F686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88A0-E999-4AB1-95C5-5ED07B2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B70F-89A5-423E-9E21-1238D1A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3D52-4911-4D04-AA10-B3A059E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9650-45DB-4871-9895-5F2916B1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CF4-A037-4DAA-BCC2-6C105C24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D126-B74C-4DB8-9536-C13AD95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F901-5C9D-4802-A932-677F743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4374-FCB6-4C65-9ED8-FE656DF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C64F-8CBB-4D14-867C-8C5697D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8CEA-2FB4-4B51-AEAE-945D1CC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2CE1-A563-4F6D-97B7-58E2C7BC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9C76-4150-47FC-9D77-1FBCCA62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94EE-75CF-4A1F-94DB-1B8088AB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7958-2810-4097-BE1C-9516F17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2690-F50F-4EA8-AFC2-7D9AB1C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9A6-44F4-48DB-8C2B-D8C0BBF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4647-6C2F-4C20-9563-59D3C2E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2018-6D68-478F-B437-1E739EE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2825-C793-4FA0-B72E-6C84EBEA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9A94-F35A-40B9-9A91-3F3F9D9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668F-BA7F-48D3-B7B4-D12A01F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1E96-B5D2-4727-8AF8-01950B8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755E-37EC-405D-9310-586EC78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6F97-F736-4A34-A088-24C65EEE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A8BB-2187-4FC0-B276-F0C7B1DE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AA48-9C12-43B8-A732-69C43A43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4C1-FF7F-4738-98B1-85ADFE8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1B9C-6A45-4679-BB0A-6FC1EDD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4D5C-3866-484E-B96B-31DF5A61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8012B-00A3-4B1E-BC9C-A315E81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C443-9BC0-4359-94CF-9B73DC0A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DADB-F845-4B1C-9C81-1DD2744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EB56-70EC-4A92-96F7-42C515E6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C4FE-4850-40D0-9A02-ABC7F2E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54A9-F713-4C85-8E27-4DE746D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A33F-8256-4FF6-943D-B7E97447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92AF-AD51-42F1-9B1C-5D0E4CAB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625-B66D-4BB8-9EDD-42ABF33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276E-3A67-46D4-A936-A4D2F032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D413-9D50-490D-A56C-8FEFD349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8347-D854-47A2-B961-CB381C5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C03B-A9A5-4089-A21C-0617BC4D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CBDE-F258-4F8B-A521-49AB91EC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CA06-2016-4680-8C35-339B0FE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08B3-B2CC-4F38-B979-8701A08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CF53-6C4C-4C44-AEC6-2454948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5EB7-51B2-4ED1-AA97-D4F6C44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DA02-1D81-4F32-8EE2-61417DF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86C-01DC-49AD-B34F-F2EC89E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EA6A-7C01-49BE-8F24-6DC28098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3CAB-6589-40FD-818A-BC5840A7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5ABF-E612-4E0C-A992-AFE85D2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0E90-F2F6-4126-AD77-34A941C2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787C-CC81-4F63-BD3B-21D3229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C791-CAA7-4340-B81C-E9786173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216C-BFF0-4E54-82A2-1C08EEC0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02D28-22A5-4F1E-A4D0-FC3D6EE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D407-1446-4257-8058-DADE1246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574A-A2D8-4740-8526-89F3DFE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2C4-7B69-4F0D-9DA4-E24CF91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80792-2E49-4003-B233-2CC3341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EC267-7235-4D60-9E46-DF7916E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E5E2-570A-4E5E-B9AA-E5CF9FF9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18DF-05F8-4F93-A9AE-ED672AEB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017B-F1B9-4C9A-BC45-74B50E7D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9DAC-DD5F-4CEE-8EF9-65B18B2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C3DB-646A-4E6F-A330-5F43C92E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DBB1F-0011-47F7-869D-34C88A40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5664F-36AE-4139-B0A0-0AE4DEF1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6F648-D669-41EF-AA81-A8C907B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E2B-EEFC-496A-AB25-32419C6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7BE2-4A07-46A8-81F3-A1CA045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26B4-4806-4B19-AEC6-F7CFFB9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F4FD1-1403-4DB4-81EE-A7653FF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A6828-0923-497E-8885-93ABAF7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C1CD-B576-4D2A-AB15-251C6C2C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ABCA-EF89-4E72-945E-9127F4DE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7750-AD09-48FF-BDF8-280B55AD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AE1F9-3AB5-4F7B-9D38-4BECBF1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42F8B-1FAB-4CDE-BB59-A90B4559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A5B16-3A7D-4E1D-A343-F795C83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7C6-9C09-4C09-B1AB-BDD8ABC4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DB97-A2C9-4D72-B0A7-E328F46E0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43D9-4BC7-4228-88C2-8A7ADDDE84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2E7A-85BB-42EE-8B61-D713F62E57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897-7F34-4DD2-9D96-A3E5B179A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5D0-3F4E-4C79-8A8B-69F40ED6A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E5BC-83A3-4E32-8CF4-A87CA06801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05F-36A8-4682-9465-E0FD3BDEA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280-2A1A-4556-AF54-3DB829FCB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7C3-EF56-485E-9EC0-7E4BF2922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0C5D-7E7F-4222-A38E-4091DE305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7A0-763B-449E-AA07-6B9BBF44D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7D9-EBF1-4977-AA9B-10FBE9638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7DC-5380-481D-8B73-C80109ECF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B3C-FD9B-4DDA-A031-5E823FF9D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2ADB-A953-478E-8198-14FAAFB91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A9F7-3870-4DEF-A95C-938A2A1EF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0AC-6D07-4685-95B7-B243F9C1D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679E-89C2-4A91-863E-D3ADD8E9D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3B3C-FDCA-4A93-A898-28FF5F7D9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3060-3EEF-4820-BC7A-CEB7ABAA2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F23-0F64-426E-A579-EC732037D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0D1-2A2E-4E39-BB26-4A70E3C92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4C2-4862-4921-99EC-62DC31E6E5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1EAC-F1C6-4F7F-A749-8527D14A1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C06-58EA-4EC0-9472-3F5220D08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790D-8E8C-4C8D-818F-877A15D10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E0D9-86D4-485E-90F9-83681A2E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70D6-4EB4-4CDC-A307-1DFAD3DD2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0AF2-5C70-4A77-84B2-D322F41EC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B76-F4D8-4BFC-A47D-64A1DD2FD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2A9-80B5-4943-9B62-F7598661A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BED1-810D-4A90-9FEB-38855E953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AAB3-D746-462F-B2C4-44B1D1ACF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8127-1A54-4B80-8D41-56BEAB420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196-33A4-4685-A805-97825DCD3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77F-FADC-41FB-9F07-A01454A41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C2FD-FBBC-4CEC-B9E8-B8252A74C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5BD-FF18-46D0-8E34-3C3EB03FA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D51F-0D63-406F-9265-FD67A64E4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105000" y="3171960"/>
            <a:ext cx="29340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810560" cy="300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2"/>
          <a:stretch/>
        </p:blipFill>
        <p:spPr>
          <a:xfrm>
            <a:off x="264960" y="1154160"/>
            <a:ext cx="8196480" cy="392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3"/>
          <a:stretch/>
        </p:blipFill>
        <p:spPr>
          <a:xfrm>
            <a:off x="320760" y="1568520"/>
            <a:ext cx="8196120" cy="820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4"/>
          <a:stretch/>
        </p:blipFill>
        <p:spPr>
          <a:xfrm>
            <a:off x="231840" y="2413080"/>
            <a:ext cx="8197920" cy="820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5"/>
          <a:stretch/>
        </p:blipFill>
        <p:spPr>
          <a:xfrm>
            <a:off x="287280" y="3257640"/>
            <a:ext cx="8196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86640" cy="5286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1701720" y="2676600"/>
            <a:ext cx="3367080" cy="390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7693200" y="3579840"/>
            <a:ext cx="1054080" cy="392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7388280" y="4035600"/>
            <a:ext cx="1055520" cy="3902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4584600" y="4965840"/>
            <a:ext cx="2335320" cy="392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4800600" y="5421240"/>
            <a:ext cx="14256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14280" y="1038240"/>
            <a:ext cx="8515440" cy="5391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2"/>
          <a:stretch/>
        </p:blipFill>
        <p:spPr>
          <a:xfrm>
            <a:off x="5651640" y="1562040"/>
            <a:ext cx="2095200" cy="392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3"/>
          <a:stretch/>
        </p:blipFill>
        <p:spPr>
          <a:xfrm>
            <a:off x="5643720" y="2009880"/>
            <a:ext cx="1896840" cy="390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4"/>
          <a:stretch/>
        </p:blipFill>
        <p:spPr>
          <a:xfrm>
            <a:off x="4705200" y="2479680"/>
            <a:ext cx="547920" cy="392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5"/>
          <a:stretch/>
        </p:blipFill>
        <p:spPr>
          <a:xfrm>
            <a:off x="7900920" y="5141880"/>
            <a:ext cx="5479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95280" y="1814400"/>
            <a:ext cx="8353440" cy="3229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2"/>
          <a:stretch/>
        </p:blipFill>
        <p:spPr>
          <a:xfrm>
            <a:off x="7962840" y="2265480"/>
            <a:ext cx="547920" cy="392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3"/>
          <a:stretch/>
        </p:blipFill>
        <p:spPr>
          <a:xfrm>
            <a:off x="7788240" y="3664080"/>
            <a:ext cx="547560" cy="392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4"/>
          <a:stretch/>
        </p:blipFill>
        <p:spPr>
          <a:xfrm>
            <a:off x="1504800" y="4143240"/>
            <a:ext cx="1001880" cy="390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5"/>
          <a:stretch/>
        </p:blipFill>
        <p:spPr>
          <a:xfrm>
            <a:off x="5842080" y="4143240"/>
            <a:ext cx="1003320" cy="390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6"/>
          <a:stretch/>
        </p:blipFill>
        <p:spPr>
          <a:xfrm>
            <a:off x="1087560" y="4608360"/>
            <a:ext cx="100332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7439040" cy="4371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2"/>
          <a:stretch/>
        </p:blipFill>
        <p:spPr>
          <a:xfrm>
            <a:off x="1341360" y="2319480"/>
            <a:ext cx="6296040" cy="466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3"/>
          <a:stretch/>
        </p:blipFill>
        <p:spPr>
          <a:xfrm>
            <a:off x="1254240" y="3827520"/>
            <a:ext cx="6296040" cy="392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4"/>
          <a:stretch/>
        </p:blipFill>
        <p:spPr>
          <a:xfrm>
            <a:off x="1371600" y="5191200"/>
            <a:ext cx="62960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333360" y="1738440"/>
            <a:ext cx="8477280" cy="3381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2"/>
          <a:stretch/>
        </p:blipFill>
        <p:spPr>
          <a:xfrm>
            <a:off x="577800" y="3160800"/>
            <a:ext cx="7824960" cy="392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3"/>
          <a:stretch/>
        </p:blipFill>
        <p:spPr>
          <a:xfrm>
            <a:off x="560520" y="3646440"/>
            <a:ext cx="7826400" cy="392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4"/>
          <a:stretch/>
        </p:blipFill>
        <p:spPr>
          <a:xfrm>
            <a:off x="473040" y="4068720"/>
            <a:ext cx="7824960" cy="392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5"/>
          <a:stretch/>
        </p:blipFill>
        <p:spPr>
          <a:xfrm>
            <a:off x="600120" y="4554360"/>
            <a:ext cx="782460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343080" y="714240"/>
            <a:ext cx="8458200" cy="6124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"/>
          <p:cNvPicPr/>
          <p:nvPr/>
        </p:nvPicPr>
        <p:blipFill>
          <a:blip r:embed="rId2"/>
          <a:stretch/>
        </p:blipFill>
        <p:spPr>
          <a:xfrm>
            <a:off x="6643800" y="714240"/>
            <a:ext cx="2305080" cy="533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8016840" y="2281320"/>
            <a:ext cx="42696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4"/>
          <a:stretch/>
        </p:blipFill>
        <p:spPr>
          <a:xfrm>
            <a:off x="2017800" y="4308480"/>
            <a:ext cx="1303200" cy="390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5"/>
          <a:stretch/>
        </p:blipFill>
        <p:spPr>
          <a:xfrm>
            <a:off x="7191360" y="4340160"/>
            <a:ext cx="68436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6"/>
          <a:stretch/>
        </p:blipFill>
        <p:spPr>
          <a:xfrm>
            <a:off x="681120" y="5584680"/>
            <a:ext cx="8196120" cy="392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7"/>
          <a:stretch/>
        </p:blipFill>
        <p:spPr>
          <a:xfrm>
            <a:off x="592200" y="5999040"/>
            <a:ext cx="8197920" cy="392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8"/>
          <a:stretch/>
        </p:blipFill>
        <p:spPr>
          <a:xfrm>
            <a:off x="576360" y="6429240"/>
            <a:ext cx="819612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338040" y="1090440"/>
            <a:ext cx="8467920" cy="4677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2"/>
          <a:stretch/>
        </p:blipFill>
        <p:spPr>
          <a:xfrm>
            <a:off x="214200" y="4081320"/>
            <a:ext cx="8197920" cy="392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3"/>
          <a:stretch/>
        </p:blipFill>
        <p:spPr>
          <a:xfrm>
            <a:off x="341280" y="4533840"/>
            <a:ext cx="819792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4"/>
          <a:stretch/>
        </p:blipFill>
        <p:spPr>
          <a:xfrm>
            <a:off x="396720" y="4910040"/>
            <a:ext cx="8197920" cy="392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5"/>
          <a:stretch/>
        </p:blipFill>
        <p:spPr>
          <a:xfrm>
            <a:off x="523800" y="5388120"/>
            <a:ext cx="81979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299880" y="895320"/>
            <a:ext cx="85442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1:45:2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